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artyhorn.wav" ContentType="audio/x-wav"/>
  <Override PartName="/ppt/media/boinng04.wav" ContentType="audio/x-wav"/>
  <Override PartName="/ppt/media/fastcar.wav" ContentType="audio/x-wav"/>
  <Override PartName="/ppt/media/trhorn04.wav" ContentType="audio/x-wav"/>
  <Override PartName="/ppt/media/highchime.wav" ContentType="audio/x-wav"/>
  <Override PartName="/ppt/media/camera.wav" ContentType="audio/x-wav"/>
  <Override PartName="/ppt/media/zipdn102.wav" ContentType="audio/x-wav"/>
  <Override PartName="/ppt/media/hzipup01.wav" ContentType="audio/x-wav"/>
  <Override PartName="/ppt/media/glass.wav" ContentType="audio/x-wav"/>
  <Override PartName="/ppt/media/caralarmoff.wav" ContentType="audio/x-wav"/>
  <Override PartName="/ppt/media/children%20wow.wav" ContentType="audio/x-wav"/>
  <Override PartName="/ppt/media/PROJCTOR.WAV" ContentType="audio/x-wav"/>
  <Override PartName="/ppt/media/doorbl07.wav" ContentType="audio/x-wav"/>
  <Override PartName="/ppt/media/cricket.wav" ContentType="audio/x-wav"/>
  <Override PartName="/ppt/media/zipby102.wav" ContentType="audio/x-wav"/>
  <Override PartName="/ppt/media/laser.wav" ContentType="audio/x-wav"/>
  <Override PartName="/ppt/media/zapbig0g.wav" ContentType="audio/x-wav"/>
  <Override PartName="/ppt/media/kid%20yea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6D3-F5EB-4B94-9A39-50E20ACC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C9F-7F10-4617-97A4-8DFB4E37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7AA-FED2-44BF-8310-65B1355F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FA4-43FC-47E7-98A3-A15B828F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191-EEDA-48F2-940A-1AEC42AB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FE8-4E48-4C61-9A31-825BAB4C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35B-684A-4F1A-A15E-18C7DF74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27F-A682-4C1B-9B7C-0E007642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E8F-9C1E-49ED-98EA-DAFE7823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8C1-75DA-4BB9-8572-5533FC0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408-847A-4BE6-93C7-9B4AC320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A47-46E4-41B8-B0F1-802C1F10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8C33-E391-48DE-B70D-C93EBDE17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children%20wow.wav"/><Relationship Id="rId15" Type="http://schemas.openxmlformats.org/officeDocument/2006/relationships/audio" Target="../media/children%20wow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zipup01.wav"/><Relationship Id="rId3" Type="http://schemas.openxmlformats.org/officeDocument/2006/relationships/audio" Target="../media/caralarmoff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doorbl07.wav"/><Relationship Id="rId7" Type="http://schemas.openxmlformats.org/officeDocument/2006/relationships/audio" Target="../media/doorbl07.wav"/><Relationship Id="rId8" Type="http://schemas.openxmlformats.org/officeDocument/2006/relationships/audio" Target="../media/doorbl07.wav"/><Relationship Id="rId9" Type="http://schemas.openxmlformats.org/officeDocument/2006/relationships/audio" Target="../media/doorbl07.wav"/><Relationship Id="rId10" Type="http://schemas.openxmlformats.org/officeDocument/2006/relationships/audio" Target="../media/trhorn04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children%20wow.wav"/><Relationship Id="rId15" Type="http://schemas.openxmlformats.org/officeDocument/2006/relationships/audio" Target="../media/zipby102.wav"/><Relationship Id="rId16" Type="http://schemas.openxmlformats.org/officeDocument/2006/relationships/audio" Target="../media/boinng04.wav"/><Relationship Id="rId17" Type="http://schemas.openxmlformats.org/officeDocument/2006/relationships/audio" Target="../media/zipby102.wav"/><Relationship Id="rId18" Type="http://schemas.openxmlformats.org/officeDocument/2006/relationships/audio" Target="../media/boinng04.wav"/><Relationship Id="rId19" Type="http://schemas.openxmlformats.org/officeDocument/2006/relationships/audio" Target="../media/hzipup01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zipup01.wav"/><Relationship Id="rId3" Type="http://schemas.openxmlformats.org/officeDocument/2006/relationships/audio" Target="../media/caralarmoff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children%20wow.wav"/><Relationship Id="rId13" Type="http://schemas.openxmlformats.org/officeDocument/2006/relationships/audio" Target="../media/children%20wow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partyhorn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zipdn102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zipdn102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zipdn102.wav"/><Relationship Id="rId24" Type="http://schemas.openxmlformats.org/officeDocument/2006/relationships/audio" Target="../media/hzipup01.wav"/><Relationship Id="rId25" Type="http://schemas.openxmlformats.org/officeDocument/2006/relationships/audio" Target="../media/boinng04.wav"/><Relationship Id="rId26" Type="http://schemas.openxmlformats.org/officeDocument/2006/relationships/audio" Target="../media/boinng04.wav"/><Relationship Id="rId27" Type="http://schemas.openxmlformats.org/officeDocument/2006/relationships/audio" Target="../media/trhorn04.wav"/><Relationship Id="rId28" Type="http://schemas.openxmlformats.org/officeDocument/2006/relationships/audio" Target="../media/zapbig0g.wav"/><Relationship Id="rId29" Type="http://schemas.openxmlformats.org/officeDocument/2006/relationships/audio" Target="../media/hzipup01.wav"/><Relationship Id="rId30" Type="http://schemas.openxmlformats.org/officeDocument/2006/relationships/audio" Target="../media/children%20wow.wav"/><Relationship Id="rId31" Type="http://schemas.openxmlformats.org/officeDocument/2006/relationships/audio" Target="../media/zipby102.wav"/><Relationship Id="rId32" Type="http://schemas.openxmlformats.org/officeDocument/2006/relationships/audio" Target="../media/boinng04.wav"/><Relationship Id="rId33" Type="http://schemas.openxmlformats.org/officeDocument/2006/relationships/audio" Target="../media/zipby102.wav"/><Relationship Id="rId34" Type="http://schemas.openxmlformats.org/officeDocument/2006/relationships/audio" Target="../media/boinng04.wav"/><Relationship Id="rId35" Type="http://schemas.openxmlformats.org/officeDocument/2006/relationships/audio" Target="../media/hzipup01.wav"/><Relationship Id="rId36" Type="http://schemas.openxmlformats.org/officeDocument/2006/relationships/audio" Target="../media/children%20wow.wav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zipdn102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doorbl07.wav"/><Relationship Id="rId28" Type="http://schemas.openxmlformats.org/officeDocument/2006/relationships/audio" Target="../media/doorbl07.wav"/><Relationship Id="rId29" Type="http://schemas.openxmlformats.org/officeDocument/2006/relationships/audio" Target="../media/trhorn04.wav"/><Relationship Id="rId30" Type="http://schemas.openxmlformats.org/officeDocument/2006/relationships/audio" Target="../media/zapbig0g.wav"/><Relationship Id="rId31" Type="http://schemas.openxmlformats.org/officeDocument/2006/relationships/audio" Target="../media/cricket.wav"/><Relationship Id="rId32" Type="http://schemas.openxmlformats.org/officeDocument/2006/relationships/audio" Target="../media/cricket.wav"/><Relationship Id="rId33" Type="http://schemas.openxmlformats.org/officeDocument/2006/relationships/audio" Target="../media/cricket.wav"/><Relationship Id="rId34" Type="http://schemas.openxmlformats.org/officeDocument/2006/relationships/audio" Target="../media/cricket.wav"/><Relationship Id="rId35" Type="http://schemas.openxmlformats.org/officeDocument/2006/relationships/audio" Target="../media/boinng04.wav"/><Relationship Id="rId36" Type="http://schemas.openxmlformats.org/officeDocument/2006/relationships/audio" Target="../media/boinng04.wav"/><Relationship Id="rId37" Type="http://schemas.openxmlformats.org/officeDocument/2006/relationships/audio" Target="../media/boinng04.wav"/><Relationship Id="rId38" Type="http://schemas.openxmlformats.org/officeDocument/2006/relationships/audio" Target="../media/hzipup01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hzipup01.wav"/><Relationship Id="rId42" Type="http://schemas.openxmlformats.org/officeDocument/2006/relationships/audio" Target="../media/hzipup01.wav"/><Relationship Id="rId43" Type="http://schemas.openxmlformats.org/officeDocument/2006/relationships/audio" Target="../media/kid%20yeah.wav"/><Relationship Id="rId44" Type="http://schemas.openxmlformats.org/officeDocument/2006/relationships/audio" Target="../media/kid%20yeah.wav"/><Relationship Id="rId4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highchime.wav"/><Relationship Id="rId3" Type="http://schemas.openxmlformats.org/officeDocument/2006/relationships/audio" Target="../media/partyhorn.wav"/><Relationship Id="rId4" Type="http://schemas.openxmlformats.org/officeDocument/2006/relationships/audio" Target="../media/zipby102.wav"/><Relationship Id="rId5" Type="http://schemas.openxmlformats.org/officeDocument/2006/relationships/audio" Target="../media/zapbig0g.wav"/><Relationship Id="rId6" Type="http://schemas.openxmlformats.org/officeDocument/2006/relationships/audio" Target="../media/caralarmoff.wav"/><Relationship Id="rId7" Type="http://schemas.openxmlformats.org/officeDocument/2006/relationships/audio" Target="../media/partyhorn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boinng04.wav"/><Relationship Id="rId6" Type="http://schemas.openxmlformats.org/officeDocument/2006/relationships/audio" Target="../media/fastcar.wav"/><Relationship Id="rId7" Type="http://schemas.openxmlformats.org/officeDocument/2006/relationships/audio" Target="../media/fastcar.wav"/><Relationship Id="rId8" Type="http://schemas.openxmlformats.org/officeDocument/2006/relationships/audio" Target="../media/zipby102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boinng04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boinng04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boinng04.wav"/><Relationship Id="rId18" Type="http://schemas.openxmlformats.org/officeDocument/2006/relationships/audio" Target="../media/hzipup01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boinng04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boinng04.wav"/><Relationship Id="rId25" Type="http://schemas.openxmlformats.org/officeDocument/2006/relationships/audio" Target="../media/caralarmoff.wav"/><Relationship Id="rId26" Type="http://schemas.openxmlformats.org/officeDocument/2006/relationships/audio" Target="../media/caralarmoff.wav"/><Relationship Id="rId27" Type="http://schemas.openxmlformats.org/officeDocument/2006/relationships/audio" Target="../media/boinng04.wav"/><Relationship Id="rId28" Type="http://schemas.openxmlformats.org/officeDocument/2006/relationships/audio" Target="../media/hzipup01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boinng04.wav"/><Relationship Id="rId6" Type="http://schemas.openxmlformats.org/officeDocument/2006/relationships/audio" Target="../media/fastcar.wav"/><Relationship Id="rId7" Type="http://schemas.openxmlformats.org/officeDocument/2006/relationships/audio" Target="../media/fastcar.wav"/><Relationship Id="rId8" Type="http://schemas.openxmlformats.org/officeDocument/2006/relationships/audio" Target="../media/zipby102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boinng04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boinng04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boinng04.wav"/><Relationship Id="rId18" Type="http://schemas.openxmlformats.org/officeDocument/2006/relationships/audio" Target="../media/hzipup01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boinng04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boinng04.wav"/><Relationship Id="rId25" Type="http://schemas.openxmlformats.org/officeDocument/2006/relationships/audio" Target="../media/caralarmoff.wav"/><Relationship Id="rId26" Type="http://schemas.openxmlformats.org/officeDocument/2006/relationships/audio" Target="../media/caralarmoff.wav"/><Relationship Id="rId27" Type="http://schemas.openxmlformats.org/officeDocument/2006/relationships/audio" Target="../media/boinng04.wav"/><Relationship Id="rId28" Type="http://schemas.openxmlformats.org/officeDocument/2006/relationships/audio" Target="../media/hzipup01.wav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3880" y="1666800"/>
                <a:ext cx="31608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w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ss Multipl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41320" y="3162240"/>
                <a:ext cx="24084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cross multiply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94200" y="3260880"/>
                <a:ext cx="1342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1828800" y="2054160"/>
            <a:ext cx="1025640" cy="6526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200320" y="2054160"/>
            <a:ext cx="690480" cy="54144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728640" y="3881520"/>
                <a:ext cx="45896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55480" y="4659480"/>
                <a:ext cx="4756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25400" y="4867200"/>
                <a:ext cx="72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19280" y="4870440"/>
                <a:ext cx="7272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92120" y="4732200"/>
                <a:ext cx="1006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102120" y="4707000"/>
                <a:ext cx="1062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66720" y="5538960"/>
                <a:ext cx="16765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60520" y="5543640"/>
                <a:ext cx="20671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52320" y="1685880"/>
                <a:ext cx="38322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ss Multipl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42880" y="3236760"/>
                <a:ext cx="2184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cross multiply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619360" y="3224160"/>
                <a:ext cx="2406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220840" y="2109960"/>
            <a:ext cx="97020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54200" y="2109600"/>
            <a:ext cx="933480" cy="5410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631960" y="3822840"/>
                <a:ext cx="1455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0" y="3808440"/>
                <a:ext cx="1457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04720" y="4602240"/>
            <a:ext cx="47577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782720" y="4516560"/>
                <a:ext cx="952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79840" y="4521240"/>
                <a:ext cx="1398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395360" y="3795840"/>
                <a:ext cx="12873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890880" y="3819600"/>
                <a:ext cx="12891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20760" y="5950080"/>
                <a:ext cx="615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09720" y="5781600"/>
                <a:ext cx="1457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866960" y="522144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68800" y="5224320"/>
            <a:ext cx="8204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41560" y="516888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44840" y="515304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flipH="1">
            <a:off x="1622160" y="3395520"/>
            <a:ext cx="803160" cy="106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136680" y="3435480"/>
            <a:ext cx="803160" cy="106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horn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19000" y="1685880"/>
                <a:ext cx="28260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ss Multipl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cross multiply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2109960"/>
            <a:ext cx="67140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01880" y="2109600"/>
            <a:ext cx="933480" cy="5410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092240" y="3162240"/>
                <a:ext cx="1905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094200" y="3260880"/>
                <a:ext cx="1342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08000" y="3881520"/>
                <a:ext cx="40291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55480" y="4659480"/>
                <a:ext cx="4756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84160" y="4754520"/>
                <a:ext cx="447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676600" y="4778280"/>
                <a:ext cx="4460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262160" y="4732200"/>
                <a:ext cx="1006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129120" y="4680000"/>
                <a:ext cx="100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77960" y="5538960"/>
                <a:ext cx="14526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00200" y="5543640"/>
                <a:ext cx="17877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1873080"/>
                <a:ext cx="5316480" cy="14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to Find the L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multiplying by the LC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50760" y="3164040"/>
                <a:ext cx="19051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389400" y="2058840"/>
                <a:ext cx="560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4840" y="1727280"/>
                <a:ext cx="1827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09840" y="3586320"/>
                <a:ext cx="558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01840" y="3214800"/>
                <a:ext cx="13190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flipV="1">
            <a:off x="1157400" y="2873520"/>
            <a:ext cx="1790640" cy="28080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59120" y="229716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130480" y="1542960"/>
                <a:ext cx="1827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92880" y="1695600"/>
                <a:ext cx="1827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 flipV="1">
            <a:off x="279360" y="1939680"/>
            <a:ext cx="225360" cy="33804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0" y="1565280"/>
                <a:ext cx="457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flipV="1">
            <a:off x="1104840" y="3360240"/>
            <a:ext cx="169920" cy="4129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0120" y="1979640"/>
            <a:ext cx="1363680" cy="3016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387440" y="3438000"/>
            <a:ext cx="1401840" cy="28260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25760" y="1758960"/>
            <a:ext cx="1363680" cy="3016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311640" y="2882520"/>
            <a:ext cx="1401480" cy="28260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03680" y="3560760"/>
                <a:ext cx="1006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V="1">
            <a:off x="5587920" y="1891800"/>
            <a:ext cx="262080" cy="3574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199120" y="2809440"/>
            <a:ext cx="395280" cy="3589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14840" y="3543480"/>
                <a:ext cx="2627280" cy="78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638520" y="4181400"/>
                <a:ext cx="3578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913360" y="4700520"/>
                <a:ext cx="1287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463920" y="4726080"/>
                <a:ext cx="1289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H="1">
            <a:off x="6216480" y="4346640"/>
            <a:ext cx="803520" cy="106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76400" y="5440320"/>
            <a:ext cx="47577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29040" y="5354640"/>
                <a:ext cx="503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5240" y="5359320"/>
                <a:ext cx="1454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10280" y="583560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543800" y="567864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078520" y="609588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99000" y="6095880"/>
            <a:ext cx="8204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280120" y="6016680"/>
                <a:ext cx="50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02040" y="5996160"/>
                <a:ext cx="5047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rhorn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6560" y="1873080"/>
                <a:ext cx="5173920" cy="14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to Find the L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equation by multiplying by the LC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87440" y="3141720"/>
                <a:ext cx="1520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44880" y="2208240"/>
                <a:ext cx="5605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8760" y="1463760"/>
                <a:ext cx="1298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60560" y="3746520"/>
                <a:ext cx="603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897200" y="3146400"/>
                <a:ext cx="15429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V="1">
            <a:off x="1157400" y="2873520"/>
            <a:ext cx="1790640" cy="280800"/>
          </a:xfrm>
          <a:prstGeom prst="line">
            <a:avLst/>
          </a:prstGeom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707000" y="229716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V="1">
            <a:off x="541440" y="1641240"/>
            <a:ext cx="1120680" cy="24444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82480" y="3323880"/>
            <a:ext cx="1346400" cy="37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2880" y="2091960"/>
            <a:ext cx="1047960" cy="24444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57320" y="3346200"/>
            <a:ext cx="1401840" cy="28260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805120" y="1647720"/>
            <a:ext cx="1214280" cy="3016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498840" y="2882880"/>
            <a:ext cx="1308240" cy="2635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596960" y="3693960"/>
                <a:ext cx="24145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927600" y="3622680"/>
                <a:ext cx="2733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025640" y="4373640"/>
                <a:ext cx="10872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87240" y="4883040"/>
                <a:ext cx="946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08640" y="4884840"/>
                <a:ext cx="94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 flipH="1">
            <a:off x="1025280" y="4410000"/>
            <a:ext cx="549000" cy="96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0760" y="5429160"/>
            <a:ext cx="54183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54160" y="5440320"/>
                <a:ext cx="9144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003400" y="5307120"/>
                <a:ext cx="11541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00160" y="6024600"/>
                <a:ext cx="3887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715080" y="4976640"/>
                <a:ext cx="20192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76400" y="5443560"/>
                <a:ext cx="61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96720" y="1913040"/>
                <a:ext cx="12988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44640" y="1522440"/>
                <a:ext cx="12988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695680" y="1971720"/>
                <a:ext cx="1298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640480" y="1992240"/>
                <a:ext cx="1298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608800" y="2441520"/>
                <a:ext cx="1298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027160" y="4289400"/>
                <a:ext cx="1936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895560" y="4307040"/>
                <a:ext cx="2549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962440" y="5419800"/>
                <a:ext cx="1290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52960" y="5398920"/>
                <a:ext cx="11905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935440" y="5494320"/>
                <a:ext cx="61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54400" y="5616720"/>
                <a:ext cx="56196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22560" y="6242040"/>
                <a:ext cx="541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87680" y="6203880"/>
                <a:ext cx="5414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67160" y="6076800"/>
                <a:ext cx="934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938760" y="6021360"/>
                <a:ext cx="8856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83400" y="5614920"/>
                <a:ext cx="1569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rhorn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301760"/>
            <a:ext cx="8686800" cy="5302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ng a Ration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880" y="1382760"/>
            <a:ext cx="86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raph of the rational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759120" y="4113360"/>
                <a:ext cx="16257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695680" y="1747800"/>
                <a:ext cx="375264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239760" y="3476520"/>
            <a:ext cx="86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a hyperbola whose center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440" y="5141880"/>
            <a:ext cx="86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Vertical and horizontal asymptotes are drawn through the cen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52440" y="1117440"/>
                <a:ext cx="75675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Sketch the graph of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ng a Ration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41280" y="2254320"/>
                <a:ext cx="19148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nter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114720" y="2203560"/>
                <a:ext cx="1197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1" name=""/>
          <p:cNvGrpSpPr/>
          <p:nvPr/>
        </p:nvGrpSpPr>
        <p:grpSpPr>
          <a:xfrm>
            <a:off x="4672080" y="2724120"/>
            <a:ext cx="3713040" cy="3751200"/>
            <a:chOff x="4672080" y="2724120"/>
            <a:chExt cx="3713040" cy="3751200"/>
          </a:xfrm>
        </p:grpSpPr>
        <p:grpSp>
          <p:nvGrpSpPr>
            <p:cNvPr id="192" name=""/>
            <p:cNvGrpSpPr/>
            <p:nvPr/>
          </p:nvGrpSpPr>
          <p:grpSpPr>
            <a:xfrm>
              <a:off x="4689360" y="2757600"/>
              <a:ext cx="3657600" cy="3657600"/>
              <a:chOff x="4689360" y="2757600"/>
              <a:chExt cx="3657600" cy="365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4689360" y="36720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89360" y="39765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689360" y="42814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89360" y="45864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89360" y="48909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89360" y="51958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89360" y="55008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89360" y="58053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89360" y="61102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89360" y="3367080"/>
                <a:ext cx="30481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893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942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992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037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908680" y="33670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13600" y="27576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518160" y="33670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230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280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325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374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0424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89360" y="3062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89360" y="27576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672080" y="2724120"/>
              <a:ext cx="3713040" cy="3751200"/>
              <a:chOff x="4672080" y="2724120"/>
              <a:chExt cx="3713040" cy="3751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513480" y="2724120"/>
                <a:ext cx="0" cy="3751200"/>
              </a:xfrm>
              <a:prstGeom prst="line">
                <a:avLst/>
              </a:prstGeom>
              <a:ln w="57240">
                <a:solidFill>
                  <a:srgbClr val="9900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72080" y="5508720"/>
                <a:ext cx="3713040" cy="1440"/>
              </a:xfrm>
              <a:prstGeom prst="line">
                <a:avLst/>
              </a:prstGeom>
              <a:ln w="57240">
                <a:solidFill>
                  <a:srgbClr val="9900ff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6458040" y="4535640"/>
            <a:ext cx="88920" cy="889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10160" y="4591080"/>
            <a:ext cx="386244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15280" y="2708280"/>
            <a:ext cx="1440" cy="3789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44520" y="2925720"/>
          <a:ext cx="2216160" cy="3683160"/>
        </p:xfrm>
        <a:graphic>
          <a:graphicData uri="http://schemas.openxmlformats.org/drawingml/2006/table">
            <a:tbl>
              <a:tblPr/>
              <a:tblGrid>
                <a:gridCol w="1108080"/>
                <a:gridCol w="1108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4960" y="3292560"/>
                <a:ext cx="8049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747880" y="3564000"/>
                <a:ext cx="3222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6796080" y="422424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503520" y="3797280"/>
                <a:ext cx="9018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603520" y="4073400"/>
                <a:ext cx="57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7040" y="4305240"/>
                <a:ext cx="868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625840" y="4579920"/>
                <a:ext cx="57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7097760" y="437688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0360" y="445464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487680" y="4792680"/>
                <a:ext cx="1093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738520" y="5102280"/>
                <a:ext cx="3222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96840" y="5280120"/>
                <a:ext cx="11588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579760" y="5613480"/>
                <a:ext cx="612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59240" y="5865840"/>
                <a:ext cx="11588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583000" y="6138720"/>
                <a:ext cx="612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6168960" y="483084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73760" y="470376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41840" y="464976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4680" y="4665600"/>
            <a:ext cx="1754280" cy="1735200"/>
          </a:xfrm>
          <a:custGeom>
            <a:avLst/>
            <a:gdLst/>
            <a:ahLst/>
            <a:rect l="l" t="t" r="r" b="b"/>
            <a:pathLst>
              <a:path w="1105" h="1093">
                <a:moveTo>
                  <a:pt x="0" y="0"/>
                </a:moveTo>
                <a:cubicBezTo>
                  <a:pt x="217" y="5"/>
                  <a:pt x="435" y="11"/>
                  <a:pt x="564" y="23"/>
                </a:cubicBezTo>
                <a:cubicBezTo>
                  <a:pt x="693" y="35"/>
                  <a:pt x="709" y="48"/>
                  <a:pt x="775" y="70"/>
                </a:cubicBezTo>
                <a:cubicBezTo>
                  <a:pt x="841" y="92"/>
                  <a:pt x="918" y="110"/>
                  <a:pt x="963" y="153"/>
                </a:cubicBezTo>
                <a:cubicBezTo>
                  <a:pt x="1008" y="196"/>
                  <a:pt x="1024" y="235"/>
                  <a:pt x="1046" y="329"/>
                </a:cubicBezTo>
                <a:cubicBezTo>
                  <a:pt x="1068" y="423"/>
                  <a:pt x="1083" y="590"/>
                  <a:pt x="1093" y="717"/>
                </a:cubicBezTo>
                <a:cubicBezTo>
                  <a:pt x="1103" y="844"/>
                  <a:pt x="1103" y="1030"/>
                  <a:pt x="1105" y="1093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68920" y="2762280"/>
            <a:ext cx="1773360" cy="1790640"/>
          </a:xfrm>
          <a:custGeom>
            <a:avLst/>
            <a:gdLst/>
            <a:ahLst/>
            <a:rect l="l" t="t" r="r" b="b"/>
            <a:pathLst>
              <a:path w="1117" h="1128">
                <a:moveTo>
                  <a:pt x="1117" y="1128"/>
                </a:moveTo>
                <a:cubicBezTo>
                  <a:pt x="886" y="1122"/>
                  <a:pt x="656" y="1117"/>
                  <a:pt x="529" y="1105"/>
                </a:cubicBezTo>
                <a:cubicBezTo>
                  <a:pt x="402" y="1093"/>
                  <a:pt x="413" y="1086"/>
                  <a:pt x="352" y="1058"/>
                </a:cubicBezTo>
                <a:cubicBezTo>
                  <a:pt x="291" y="1030"/>
                  <a:pt x="211" y="989"/>
                  <a:pt x="164" y="940"/>
                </a:cubicBezTo>
                <a:cubicBezTo>
                  <a:pt x="117" y="891"/>
                  <a:pt x="93" y="856"/>
                  <a:pt x="70" y="764"/>
                </a:cubicBezTo>
                <a:cubicBezTo>
                  <a:pt x="47" y="672"/>
                  <a:pt x="35" y="515"/>
                  <a:pt x="23" y="388"/>
                </a:cubicBezTo>
                <a:cubicBezTo>
                  <a:pt x="11" y="261"/>
                  <a:pt x="5" y="130"/>
                  <a:pt x="0" y="0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5120" y="1117440"/>
                <a:ext cx="83343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Sketch the graph of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ng a Ration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241280" y="2254320"/>
                <a:ext cx="19148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enter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232080" y="2166840"/>
                <a:ext cx="1484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1244520" y="2925720"/>
          <a:ext cx="2216160" cy="3683160"/>
        </p:xfrm>
        <a:graphic>
          <a:graphicData uri="http://schemas.openxmlformats.org/drawingml/2006/table">
            <a:tbl>
              <a:tblPr/>
              <a:tblGrid>
                <a:gridCol w="1108080"/>
                <a:gridCol w="1108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-23760" y="3398760"/>
                <a:ext cx="1235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52840" y="3564000"/>
                <a:ext cx="514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424320" y="3852720"/>
                <a:ext cx="12808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603520" y="4073400"/>
                <a:ext cx="579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0" y="4398840"/>
                <a:ext cx="1252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625840" y="4595760"/>
                <a:ext cx="581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446640" y="4867200"/>
                <a:ext cx="12794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610000" y="5086440"/>
                <a:ext cx="57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2600" y="5354640"/>
                <a:ext cx="1220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595600" y="5613480"/>
                <a:ext cx="5810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394080" y="6012000"/>
                <a:ext cx="13730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598840" y="6138720"/>
                <a:ext cx="5810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4648320" y="2727360"/>
            <a:ext cx="3806640" cy="3771720"/>
            <a:chOff x="4648320" y="2727360"/>
            <a:chExt cx="3806640" cy="3771720"/>
          </a:xfrm>
        </p:grpSpPr>
        <p:grpSp>
          <p:nvGrpSpPr>
            <p:cNvPr id="263" name=""/>
            <p:cNvGrpSpPr/>
            <p:nvPr/>
          </p:nvGrpSpPr>
          <p:grpSpPr>
            <a:xfrm>
              <a:off x="4689360" y="2757600"/>
              <a:ext cx="3657600" cy="3657600"/>
              <a:chOff x="4689360" y="2757600"/>
              <a:chExt cx="3657600" cy="3657600"/>
            </a:xfrm>
          </p:grpSpPr>
          <p:sp>
            <p:nvSpPr>
              <p:cNvPr id="264" name=""/>
              <p:cNvSpPr/>
              <p:nvPr/>
            </p:nvSpPr>
            <p:spPr>
              <a:xfrm>
                <a:off x="4689360" y="36720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89360" y="39765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89360" y="42814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89360" y="45864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89360" y="48909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89360" y="51958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89360" y="55008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89360" y="58053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89360" y="61102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89360" y="3367080"/>
                <a:ext cx="30481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893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942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2992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6037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08680" y="33670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13600" y="27576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18160" y="33670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230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280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3256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37480" y="27576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042400" y="33670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89360" y="3062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89360" y="27576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648320" y="2727360"/>
              <a:ext cx="3806640" cy="3771720"/>
              <a:chOff x="4648320" y="2727360"/>
              <a:chExt cx="3806640" cy="377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4648320" y="3079800"/>
                <a:ext cx="3806640" cy="0"/>
              </a:xfrm>
              <a:prstGeom prst="line">
                <a:avLst/>
              </a:prstGeom>
              <a:ln w="57240">
                <a:solidFill>
                  <a:srgbClr val="9900ff"/>
                </a:solidFill>
                <a:miter/>
                <a:headEnd len="med" type="arrow" w="sm"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602320" y="2727360"/>
                <a:ext cx="0" cy="3771720"/>
              </a:xfrm>
              <a:prstGeom prst="line">
                <a:avLst/>
              </a:prstGeom>
              <a:ln w="57240">
                <a:solidFill>
                  <a:srgbClr val="9900ff"/>
                </a:solidFill>
                <a:miter/>
                <a:headEnd len="med" type="arrow" w="sm"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6458040" y="4535640"/>
            <a:ext cx="88920" cy="889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10160" y="4591080"/>
            <a:ext cx="386244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515280" y="2708280"/>
            <a:ext cx="1440" cy="3789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77000" y="329256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7760" y="392904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7880" y="423072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68960" y="574668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72320" y="5151600"/>
            <a:ext cx="88920" cy="8856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41960" y="4836960"/>
            <a:ext cx="88920" cy="88920"/>
          </a:xfrm>
          <a:prstGeom prst="ellipse">
            <a:avLst/>
          </a:prstGeom>
          <a:solidFill>
            <a:srgbClr val="006600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80160" y="2762280"/>
            <a:ext cx="1662120" cy="1641600"/>
          </a:xfrm>
          <a:custGeom>
            <a:avLst/>
            <a:gdLst/>
            <a:ahLst/>
            <a:rect l="l" t="t" r="r" b="b"/>
            <a:pathLst>
              <a:path w="1047" h="1034">
                <a:moveTo>
                  <a:pt x="0" y="0"/>
                </a:moveTo>
                <a:cubicBezTo>
                  <a:pt x="23" y="130"/>
                  <a:pt x="47" y="261"/>
                  <a:pt x="94" y="388"/>
                </a:cubicBezTo>
                <a:cubicBezTo>
                  <a:pt x="141" y="515"/>
                  <a:pt x="186" y="670"/>
                  <a:pt x="282" y="764"/>
                </a:cubicBezTo>
                <a:cubicBezTo>
                  <a:pt x="378" y="858"/>
                  <a:pt x="542" y="907"/>
                  <a:pt x="670" y="952"/>
                </a:cubicBezTo>
                <a:cubicBezTo>
                  <a:pt x="798" y="997"/>
                  <a:pt x="980" y="1022"/>
                  <a:pt x="1047" y="1034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84680" y="4759200"/>
            <a:ext cx="1603440" cy="1660680"/>
          </a:xfrm>
          <a:custGeom>
            <a:avLst/>
            <a:gdLst/>
            <a:ahLst/>
            <a:rect l="l" t="t" r="r" b="b"/>
            <a:pathLst>
              <a:path w="1010" h="1046">
                <a:moveTo>
                  <a:pt x="0" y="0"/>
                </a:moveTo>
                <a:cubicBezTo>
                  <a:pt x="129" y="18"/>
                  <a:pt x="258" y="37"/>
                  <a:pt x="387" y="82"/>
                </a:cubicBezTo>
                <a:cubicBezTo>
                  <a:pt x="516" y="127"/>
                  <a:pt x="679" y="172"/>
                  <a:pt x="775" y="270"/>
                </a:cubicBezTo>
                <a:cubicBezTo>
                  <a:pt x="871" y="368"/>
                  <a:pt x="924" y="541"/>
                  <a:pt x="963" y="670"/>
                </a:cubicBezTo>
                <a:cubicBezTo>
                  <a:pt x="1002" y="799"/>
                  <a:pt x="1004" y="983"/>
                  <a:pt x="1010" y="1046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3-04T12:10:27Z</dcterms:modified>
  <cp:revision>17</cp:revision>
  <dc:subject/>
  <dc:title>Slide 1</dc:title>
</cp:coreProperties>
</file>